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1999-E555-4897-8EC6-0D8C898C4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B22C-9EFE-4D3A-AEA7-56911CF36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C17-CAA4-4996-B86E-872945BC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EFB-E425-4F05-8EAE-0067012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812-5E7D-451A-90C2-A4B1C079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727-A5F0-408D-8813-E67EA991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1C-0B1A-4976-BAD6-22EA9FE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538-7F9C-4DDA-91CE-AAC40794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404-1607-449C-A612-D541FD5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A7-3B64-4244-849F-C27F0E2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EF2-D565-43FB-AC62-25E2422C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21C-E61D-48AE-BE28-0EEB12B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54B-A935-490C-ACDD-97822BA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E93-F45E-4D1B-B559-8ACD4D8F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BEC-41C5-492B-ACD6-A0EA6F06E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857160" y="3000240"/>
            <a:ext cx="75009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42876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571680" y="571680"/>
            <a:ext cx="7929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28584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ейшие окислители и восстанов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Изображение 109"/>
          <p:cNvPicPr/>
          <p:nvPr/>
        </p:nvPicPr>
        <p:blipFill>
          <a:blip r:embed="rId2"/>
          <a:stretch/>
        </p:blipFill>
        <p:spPr>
          <a:xfrm>
            <a:off x="428760" y="1714680"/>
            <a:ext cx="831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понятия теории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называется процессом восстано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изменяется степень окисления элемента при восстанов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называется процессом окис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изменяется степень окисления элемента при окис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е понятие «восстанов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ите понятие «окисл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предсказать функцию вещества по степени окисления элемен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важнейшие восстановители и окисл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акции называются окислительно-восстановительны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Изображение 064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593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500200" y="85716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571760" y="1214280"/>
            <a:ext cx="550044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менению степени окисления атомо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57120" y="3643200"/>
            <a:ext cx="3929040" cy="1068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43280" y="2714760"/>
            <a:ext cx="4286520" cy="155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изменения степени окисления атомов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все реакции ионного обмена, а также многие реакции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/>
          <p:nvPr/>
        </p:nvCxnSpPr>
        <p:spPr>
          <a:xfrm flipH="1">
            <a:off x="2714400" y="2428920"/>
            <a:ext cx="7862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0"/>
          <p:cNvCxnSpPr/>
          <p:nvPr/>
        </p:nvCxnSpPr>
        <p:spPr>
          <a:xfrm>
            <a:off x="5643360" y="2428560"/>
            <a:ext cx="572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Picture 2" descr="C:\Documents and Settings\Admin\Мои документы\Мои рисунки\Изображение\Изображение 075.jpg"/>
          <p:cNvPicPr/>
          <p:nvPr/>
        </p:nvPicPr>
        <p:blipFill>
          <a:blip r:embed="rId1"/>
          <a:stretch/>
        </p:blipFill>
        <p:spPr>
          <a:xfrm>
            <a:off x="4643280" y="4572000"/>
            <a:ext cx="4357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ми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кции, которые сопровождаются изменением степеней окисления химических элементов, входящих в состав реагент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42960" y="2214720"/>
            <a:ext cx="28573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молекулярного окисления-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072040" y="2286000"/>
            <a:ext cx="3643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внутримолекулярного окисления-восстан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28760" y="4643280"/>
            <a:ext cx="41432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диспропорционирования, дисмутации или самоокисления-само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4429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8"/>
          <p:cNvCxnSpPr/>
          <p:nvPr/>
        </p:nvCxnSpPr>
        <p:spPr>
          <a:xfrm>
            <a:off x="5214600" y="2000160"/>
            <a:ext cx="4294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 flipH="1">
            <a:off x="3285360" y="1927800"/>
            <a:ext cx="4294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/>
          <p:nvPr/>
        </p:nvCxnSpPr>
        <p:spPr>
          <a:xfrm flipH="1">
            <a:off x="4071600" y="2286000"/>
            <a:ext cx="286560" cy="22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 и восстанов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принимает электроны в ходе окислительно-восстановительной реакции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отдает электроны в ходе окислительно-восстановительной реакц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ые реакци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- доноры электронов (восстановители) – и частицы- акцепторы электронов (окислители) – находя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ных веществ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типу относится большинство ОВ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Admin\Мои документы\Мои рисунки\Изображение\Изображение 070.jpg"/>
          <p:cNvPicPr/>
          <p:nvPr/>
        </p:nvPicPr>
        <p:blipFill>
          <a:blip r:embed="rId1"/>
          <a:stretch/>
        </p:blipFill>
        <p:spPr>
          <a:xfrm>
            <a:off x="357120" y="3714840"/>
            <a:ext cx="84232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ы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 электронов -  восстановитель- и акцептор электронов – окислитель – находя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дном и том же вещ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071"/>
          <p:cNvPicPr/>
          <p:nvPr/>
        </p:nvPicPr>
        <p:blipFill>
          <a:blip r:embed="rId1"/>
          <a:stretch/>
        </p:blipFill>
        <p:spPr>
          <a:xfrm>
            <a:off x="1143000" y="3143160"/>
            <a:ext cx="6572160" cy="35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и дисмутации, или диспропорционирования, или самоокисления-самовосстан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одного и того же элемента в веществ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яют одновременно функции 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становителей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кцепт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кисл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реакции возможны для веществ, содержащих атомы химических элементов в промежуточной степени окис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Мои документы\Мои рисунки\Изображение\Изображение 072.jpg"/>
          <p:cNvPicPr/>
          <p:nvPr/>
        </p:nvPicPr>
        <p:blipFill>
          <a:blip r:embed="rId1"/>
          <a:stretch/>
        </p:blipFill>
        <p:spPr>
          <a:xfrm>
            <a:off x="857160" y="4071960"/>
            <a:ext cx="67867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окислительно-восстановительных реакций использ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метод электронного бала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авнении степеней окисления атомов в исходных веществах и продуктах реакции и на балансировании числа электронов, смещаемых от восстановителя к окислителю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уравнений реакций, протекающих в любых фазах. 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 мето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хему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степени окисления элементов в реагентах и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, является реакция окислительно-восстановительной или она протекает без изменения степеней окисления элементов. В первом случае выполнить все последующие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черкнуть элементы, степени, окисления которых измен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, какой элемент окисля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 повышается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кой элемент восстанавлив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ается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а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левой части схемы обозначить с помощью стрелок процесс окисления (смещения электронов от атома элемента) и процесс восстановления (смещения электронов к атому элем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ределить восстанов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от которого смещаются электроны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кисл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к которому смещаются электрон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балансировать число электронов между окислителем и восстанов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пределить коэффициенты для окислителя и восстановителя, продуктов окисления и восстано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исать коэффициент перед формулой вещества, определяющего среду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оверить уравнени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жения сущности окислительно-восстановительных реакций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электронно-ионных уравнениях полуреакций записываются ионы, реально существующие в водном растворе, а не условные частицы. (Например, ио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не атом азота со степенью окисления +3 и атом серы со степенью окисления +4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использовании этого метода не нужно знать все вещества: они 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4214880" y="4643280"/>
            <a:ext cx="1260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этапы составления уравнений окислительно-восстановительных реакци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онно-электронным мето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примере взаимодействия цинка с концентрированной азотной кислот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ываем ионную схему процесса, которая включает только восстановитель и продукт его окисления, и окислитель и продукт его восстановле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928800" y="4500720"/>
            <a:ext cx="7415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ОКИСЛЕНИЯ И ВОССТАНО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кисление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отдачи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м степени оки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сстановлени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присоединения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ением степени окисления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Изображение 0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77"/>
          <p:cNvPicPr/>
          <p:nvPr/>
        </p:nvPicPr>
        <p:blipFill>
          <a:blip r:embed="rId2"/>
          <a:srcRect l="-80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определения функции соединения в окислительно-восстановительных реакция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шую степень окислен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зшую степени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ежуточную степень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ка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овителе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жите функции веществ в окислительно-восстановительных реакция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Изображение 078"/>
          <p:cNvPicPr/>
          <p:nvPr/>
        </p:nvPicPr>
        <p:blipFill>
          <a:blip r:embed="rId1"/>
          <a:stretch/>
        </p:blipFill>
        <p:spPr>
          <a:xfrm>
            <a:off x="5000760" y="6072120"/>
            <a:ext cx="3851280" cy="48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Изображение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0" y="14292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1:13:28Z</dcterms:created>
  <dc:creator>Admin</dc:creator>
  <dc:description/>
  <dc:language>en-US</dc:language>
  <cp:lastModifiedBy>Admin</cp:lastModifiedBy>
  <dcterms:modified xsi:type="dcterms:W3CDTF">2012-12-19T10:51:24Z</dcterms:modified>
  <cp:revision>52</cp:revision>
  <dc:subject/>
  <dc:title>Слайд 1</dc:title>
</cp:coreProperties>
</file>